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png" ContentType="image/png"/>
  <Override PartName="/ppt/media/image3.jpeg" ContentType="image/jpe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BDC06-54D5-4257-8320-087EF6CDD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336D6-D78D-481E-9CE7-E5185E3F9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74A92-421A-4B06-902A-A2C53AC43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FF595-4CAD-4D68-AB1A-7EE7DF3CE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A4DC7-EE29-4A93-AF74-B38837F88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34CE5-FC04-4B56-A3B6-938FFADD0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C6B22-A826-4FF9-A936-E04FEA7D7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D63D7-2566-4E72-BE07-7E5100FB1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2433B-5D73-42D0-BD8D-D060A72A8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DE757-B489-4462-8ADD-440AE326E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0BE43-FF0B-4305-9037-03D84CCEA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72C3A-4418-4063-9F92-B51ED223B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632C4-FBA7-4AED-AED7-BAAF82DA6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FDF48-0AD7-421F-8D3A-610E5A38B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02272-53E1-483D-9466-6C9A9A9BB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979E3-EB2A-400D-820E-4DB3D16CD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BB814-8C2D-4B4B-BA4D-3F7649D07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9F4298-4E0B-430A-9763-04165EBB6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2CF05E-870A-4BC2-9988-B65F9759D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B4C28C-CC11-44A4-ACE8-19260ED0D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EA8FF7-8058-488D-90AD-D070A8B80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14F28E-F6BD-432F-BC05-2B152A8AB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59A3B-CF73-4B7D-B2A2-2403D835A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34315F-5507-4EC1-A173-50C590F20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829E6A-4C17-49CC-8CE5-999FC3830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AB2903-4811-4AA9-BCD1-53B402CB5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8F8E78-0E08-4D35-AC0D-9C38DA6B9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466F51-C5F8-434F-84FA-8995114CC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05DE10-89B6-4E7E-BFE4-F918B53E1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733DFE-5C1A-4B02-A4D4-036EB95D2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AA2F8F-9739-4A84-B4BD-6FDA345D5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5ACEE8-788E-4F30-9B9D-6D217EA8A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E04430-5819-47CC-94E2-A9FD6BFC7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5ABB4-CBF7-4AC3-991E-BA93DB880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272811-6660-410B-91BB-7ACBB0ED3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5A6D1E-9DD1-47D2-9F37-88B85E283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430F05-12C8-4FFB-BB6E-A6143C3DE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9DE1F2-B0D4-4353-874D-5DCB2FC24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4A55F2-9D75-46D9-9520-7DEDB43E2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2BF6D7-184F-4804-88D5-8AA82F3A8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BB02CE-BCC8-4C0D-A036-7073B005C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8CDA48-E19D-44A8-906C-2976D367A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2D869C-BA9D-4446-8AF0-3971AF03A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2DB108-4C63-484D-B7C6-281C8398D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43C96-385C-424D-A328-8431367C6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5CFB91-8A0A-4AA9-948F-62142E9AD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6F0691-FE03-470A-A16E-8057DE04E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B4AB88-8732-4654-8578-99DFE6657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6EF24E-E201-4BCB-AC7B-3A1504C76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F86379-E8ED-4C64-B33C-A0AFE752B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7FDEDC-27A4-4CD4-99FA-6B7016BA1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5B7B9D-68C2-4E42-8BE7-72CB10F45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D874B3-9BF2-4269-8EEF-8657D1828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B30721-3884-4F92-A347-7FE42F365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AD781E-3D72-4648-B403-4971E2BC2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3D65C-B56B-4D47-B82C-ED15F333E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EF80A5-C516-4A18-BFA8-69BCDB4F3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D94A2-99C4-4B21-9F83-9E160386B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C0109-09FD-4230-A50F-56C1C5782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F47E6-08F2-4DEF-A823-6A85E3F9E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3979E-871C-4D57-B115-35D9514296DD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ounded Rectangle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70B1C-7E76-43A5-99D7-4831637035E6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Rounded Rectangle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Rounded Rectangle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Rectangle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966B8-EB5E-4638-A7CD-BF90152C6024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ounded Rectangle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40489-E29E-4DA1-8DE1-F0CA88D6EA21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935C4-C530-4479-A9E8-85C0A3C8640A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image" Target="../media/image7.wmf"/><Relationship Id="rId6" Type="http://schemas.openxmlformats.org/officeDocument/2006/relationships/image" Target="../media/image8.wmf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96464"/>
              </a:solidFill>
              <a:latin typeface="Perpetu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Franklin Gothic Book"/>
              </a:rPr>
              <a:t>Nature of Science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Nature of Science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Leads to ongoing investigat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All explanations are tentativ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Anomalous observations cannot be disregarded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Paradigm shifts may occur (Kuhn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Nature of Science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Benefits from scientific behavior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Pay attention to what other people have already done.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Expose your ideas to testing.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Assimilate the evidence.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Openly communicate ideas and tests to others.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Play fair: Act with scientific integrity.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What do we mean by…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Magic?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Religion?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Mysticism?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cience?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Each of these has a set of core beliefs and practices that define it and distinguish it from other “worldviews”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Playing the game…a metaphor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233" name="Picture 5" descr="C:\Documents and Settings\ecrobeck\Local Settings\Temporary Internet Files\Content.IE5\RKGQ0G17\MP900422165[1].jpg"/>
          <p:cNvPicPr/>
          <p:nvPr/>
        </p:nvPicPr>
        <p:blipFill>
          <a:blip r:embed="rId1"/>
          <a:stretch/>
        </p:blipFill>
        <p:spPr>
          <a:xfrm>
            <a:off x="3432240" y="175248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9" descr="C:\Documents and Settings\ecrobeck\Local Settings\Temporary Internet Files\Content.IE5\EOYNERVY\MC900318752[1].wmf"/>
          <p:cNvPicPr/>
          <p:nvPr/>
        </p:nvPicPr>
        <p:blipFill>
          <a:blip r:embed="rId2"/>
          <a:stretch/>
        </p:blipFill>
        <p:spPr>
          <a:xfrm>
            <a:off x="6248520" y="1905120"/>
            <a:ext cx="1430280" cy="182376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11" descr="C:\Documents and Settings\ecrobeck\Local Settings\Temporary Internet Files\Content.IE5\EOYNERVY\MC900233050[1].wmf"/>
          <p:cNvPicPr/>
          <p:nvPr/>
        </p:nvPicPr>
        <p:blipFill>
          <a:blip r:embed="rId3"/>
          <a:stretch/>
        </p:blipFill>
        <p:spPr>
          <a:xfrm>
            <a:off x="3048120" y="4648320"/>
            <a:ext cx="2462040" cy="177624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12" descr="C:\Documents and Settings\ecrobeck\Local Settings\Temporary Internet Files\Content.IE5\O3CJTFRG\MC900054050[1].wmf"/>
          <p:cNvPicPr/>
          <p:nvPr/>
        </p:nvPicPr>
        <p:blipFill>
          <a:blip r:embed="rId4"/>
          <a:stretch/>
        </p:blipFill>
        <p:spPr>
          <a:xfrm>
            <a:off x="762120" y="3733920"/>
            <a:ext cx="1633320" cy="25923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15" descr="C:\Program Files\Microsoft Office\MEDIA\CAGCAT10\j0285698.wmf"/>
          <p:cNvPicPr/>
          <p:nvPr/>
        </p:nvPicPr>
        <p:blipFill>
          <a:blip r:embed="rId5"/>
          <a:stretch/>
        </p:blipFill>
        <p:spPr>
          <a:xfrm>
            <a:off x="1371600" y="1905120"/>
            <a:ext cx="1706400" cy="182376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16" descr="C:\Program Files\Microsoft Office\MEDIA\CAGCAT10\j0298653.wmf"/>
          <p:cNvPicPr/>
          <p:nvPr/>
        </p:nvPicPr>
        <p:blipFill>
          <a:blip r:embed="rId6"/>
          <a:stretch/>
        </p:blipFill>
        <p:spPr>
          <a:xfrm>
            <a:off x="5943600" y="4572000"/>
            <a:ext cx="294624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240" name="Picture 2" descr=""/>
          <p:cNvPicPr/>
          <p:nvPr/>
        </p:nvPicPr>
        <p:blipFill>
          <a:blip r:embed="rId1"/>
          <a:stretch/>
        </p:blipFill>
        <p:spPr>
          <a:xfrm>
            <a:off x="1600200" y="317520"/>
            <a:ext cx="6400800" cy="654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Nature of Science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cuses on the natural world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As opposed to…???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Science does not accept explanations based on supernatural cause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Magic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Divine Intervention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Animism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Mysticism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Science relies on physical causes that posit interactions among fundamental entities; matter, energy, tim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Nature of Science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Aims to explain the natural world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Works to produce increasingly accurate explanations for how the world work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There are always more question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Knowledge is always tentativ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Nature of Science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Uses testable idea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Separate assumptions from ideas that can be tested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Physical causes for event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Law of uniform change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Develop tests that can confirm or refut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All xenolobs are green”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There is no blue xenolob”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Nature of Science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Relies on Evidenc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19840" indent="-21708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Science rejects authority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19840" indent="-21708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Is NOT about voting (e.g., “most scientists believe…”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19840" indent="-21708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Evidence must be auditable—if you want to check, can you?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19840" indent="-21708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Evidence must (usually) be consistent with established theory, since those theories are also based on evidenc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19840" indent="-21708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Extraordinary claims require extraordinary evidenc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19840" indent="-21708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Parsimony – Occam’s razor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19840" indent="-217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Nature of Science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cience involves the scientific community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Peer review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Replication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Contribution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Necessity to publish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7T14:29:19Z</dcterms:created>
  <dc:creator>Information  Technology</dc:creator>
  <dc:description/>
  <dc:language>en-US</dc:language>
  <cp:lastModifiedBy>Information  Technology</cp:lastModifiedBy>
  <dcterms:modified xsi:type="dcterms:W3CDTF">2010-10-12T17:46:12Z</dcterms:modified>
  <cp:revision>31</cp:revision>
  <dc:subject/>
  <dc:title>Slide 1</dc:title>
</cp:coreProperties>
</file>